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B2C-4715-4BAF-A5CF-4CF6946E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CA1-6FB5-451E-B80F-010FC85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B7A-7FA4-4D32-B54A-49E64B91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CCF-DB90-458B-8C2A-59C20E84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FE98-E4E0-4960-8D49-EA6077D6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EC44-585A-48F0-B743-C1681915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A22-CE0E-4A36-9D28-B4DB45D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541-4F5D-458A-846D-3F9A502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0CC-F74E-482B-8B51-42FA698D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E8A-33A1-450B-8208-897CBDB7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8735-6DCE-4320-9DA6-EB00A96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32D-B453-4BED-AD53-1417B25D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BA42-6379-4F9D-9C07-D6B0E83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E824-E261-43F9-964A-037DFDE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0F23-54CA-414E-ABC9-2827BD84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79D5-4BA7-4F1E-9DE5-C9E60012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8BB0-DE09-4802-8343-077DBEAB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8DA-C465-4355-9FD1-69F562DC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A86-A232-445B-B194-263BAAE5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8EE-879D-4594-98F3-2FCC036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FDC-024A-4F7F-A4E0-2F55B1B0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443-A72A-4110-A3B6-6882AAE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317-C298-4D47-BEA9-8E2DC5B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D11-04EF-43C4-8676-CDBA3AA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29A2-7E5D-464A-A9AE-F66691A066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4FAC-51C5-498C-B274-94AE58B049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ager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ng Sensory Detail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ag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mage is language that describes something that can be seen, heard, touched, tasted, or sme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mages in a literary work are referred to, when considered together, as the work’s image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g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un’s beams shimmered and danced on the ocean’s gentle wave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1029" descr="Picture 295"/>
          <p:cNvPicPr/>
          <p:nvPr/>
        </p:nvPicPr>
        <p:blipFill>
          <a:blip r:embed="rId1"/>
          <a:stretch/>
        </p:blipFill>
        <p:spPr>
          <a:xfrm>
            <a:off x="457200" y="2467080"/>
            <a:ext cx="4013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m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fragrant roses drifted through the room like elusive ghosts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12" descr="smelltheroses"/>
          <p:cNvPicPr/>
          <p:nvPr/>
        </p:nvPicPr>
        <p:blipFill>
          <a:blip r:embed="rId1"/>
          <a:stretch/>
        </p:blipFill>
        <p:spPr>
          <a:xfrm>
            <a:off x="1109520" y="1886040"/>
            <a:ext cx="27068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hough they could not see outside the cabin, they could hear the eerie tapping, tapping, tapping, of his knife upon their do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6" descr="Hearing-assistance-symbol"/>
          <p:cNvPicPr/>
          <p:nvPr/>
        </p:nvPicPr>
        <p:blipFill>
          <a:blip r:embed="rId1"/>
          <a:stretch/>
        </p:blipFill>
        <p:spPr>
          <a:xfrm>
            <a:off x="1143000" y="2057400"/>
            <a:ext cx="28954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s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heesecake’s exquisite flavor traveled from his tongue to his spin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thebestthingiknow.com/wp-content/uploads/2013/10/taste-buds.jpg"/>
          <p:cNvPicPr/>
          <p:nvPr/>
        </p:nvPicPr>
        <p:blipFill>
          <a:blip r:embed="rId2"/>
          <a:stretch/>
        </p:blipFill>
        <p:spPr>
          <a:xfrm>
            <a:off x="16812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icy breeze gently brushed against the hair on her neck, and goose-bumps shortly followed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touchLite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5:20:44Z</dcterms:created>
  <dc:creator>Authorized User</dc:creator>
  <dc:description/>
  <dc:language>en-US</dc:language>
  <cp:lastModifiedBy>San Diego City Schools</cp:lastModifiedBy>
  <dcterms:modified xsi:type="dcterms:W3CDTF">2013-11-07T14:54:51Z</dcterms:modified>
  <cp:revision>9</cp:revision>
  <dc:subject/>
  <dc:title>Elements of Poetry</dc:title>
</cp:coreProperties>
</file>